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E91-F362-4BD9-AABA-5B8AF31F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81D-AD7B-4823-BC5D-7B612DD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9C0D8-D0F5-479E-82A1-99E50F4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6AEBC-675F-437A-87E0-E2B003E1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D8BC-68F3-46A7-B1CE-617507D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F2FF7-5C41-49D8-94C0-B0D6C268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3233-296F-4F98-8069-E296359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0397F-6F55-41F2-892C-84537BA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E3E22-03CE-4B13-A59F-B7FCBD9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8F65-F432-4641-A18F-43C0E680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B55D-51F9-445F-B237-B5FE1E59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85FB2-A9DF-4815-B13D-060D6468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320-B653-420D-AB7C-73778AA8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83A5F-D3C7-49BD-BA66-E7F3E0E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EC6BF-854F-4456-86AC-42D91A6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5331-CB52-45A1-B6F4-EBB0CE39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8B5D1-5303-4FF8-8AA4-42A7512C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DC0E6-8D79-4ADC-A3D5-F3E0823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6C23F-7896-430B-9438-CAFEF9C8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B9863-46C9-4E62-982B-1CE2B26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3B47-13AB-4A5E-9819-11B8CC2D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89BE6-F30B-4681-830F-E192993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C1CE-F510-42DA-848F-62D4B6B1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E5F-C387-4A0E-B52B-6CF21366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376B5-BBF4-4BD7-8D75-4F537491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2237-050C-4FF0-9D93-A8535C6D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A7A71-517C-49BD-9DB4-DFBC59CA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FB0A-BD2D-4F60-8341-8948926C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83842-8105-49DF-86FD-CAAF6EB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FDC89-5D39-4976-9626-4478DB0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AA92-D1E1-4176-B410-5C7DB8E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18D3-826B-475F-A07F-FD0D39E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8EE2A-DA83-4D23-8E49-3951F2D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369E0-E656-4F7C-AF84-B8D0987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323E-3224-40AB-80E8-EE9F6DF8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B4333-DB84-4661-8F55-CFA3F77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4A709-862A-4C46-8907-7CFCB894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9428C-F840-4788-B5BE-C26D0F64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32ABC-09C8-4D14-933C-0AC3EDB3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D8E26-F2FD-43CE-85BE-2FFA82B7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28FEA-36BB-42B0-B99B-0F9F33A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D75DA-883E-4ED3-B567-031303C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BEB91-C542-4664-A1AA-6E801308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32120-7104-4151-9270-4450945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41407-82D9-4F0F-A05D-49122279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E003-16FF-49EC-B8A6-0B5F2147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73C35-CE4A-41B6-A661-EFC8846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2873-46A7-45BB-976D-8E7761E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730DC-0F80-4B01-BC29-33A0061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92942-BB3A-471A-8460-F57B5F22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2262C-0990-425F-91C4-B6B950E2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8198E-ADFB-46B2-88A5-849267FF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211AF-C2B3-44A2-B488-A7D293FC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BE477-30FE-45B2-B53A-5F1D146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CA8DB-0618-4B4F-AE3F-E3B2550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136D9-02A5-45E5-B7A3-B7CCD40C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BC4B-200A-49BF-A201-5D7F470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3E10E-CD01-4FD6-B88B-C5CE7BD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A6C0D-53BC-4F29-8288-F86061C5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E6849-6A45-46AB-A3DD-D21C2C2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283FF-F92B-48B3-9986-18030F4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500AE-73AA-4323-8885-BE429D8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4A0E5-3EE0-4D13-A6D9-CF8A1D75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ED337-E4F7-4B9C-9A8A-528D3137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99240-C8FA-4653-9BA8-F250399B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E1371-EF70-479A-9EDD-CB608BB2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EA259-D792-40D9-93E7-DE9E8AB0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DF8-2D3C-4AFA-A99E-DDE5A42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9B51A-8D50-412E-AEDC-7DCD6B9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EE9D1-BBC7-4F48-B764-8A692536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65E7F-C402-470B-BEC9-CA4D1E17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D269C-BA46-4084-8224-78AF875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13240-6100-423F-B4A6-7C068CB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B50C8-2A7E-4E5E-9B5B-B1E4BFA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FD3EF-1DBF-427E-8F8C-4B8CECB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B0CDD-6595-4B4C-A109-76B37DD6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2004F-C4B6-4FDF-A1BD-1EAD92FC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D68F-32F9-4BC3-A6C5-7FE5E6C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A511-EB75-4A6E-BD06-8A2A1EA2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09B0-EE54-408F-B521-D475B8D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D60-29E8-473F-9422-E9C7AF53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706-58E2-4E74-B828-C72C403E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751-ADCC-4AAF-B337-0D80971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5F8F-A98D-47EB-980C-A1184584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47A-669C-4460-A7EF-FD4B078E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02A-6B08-44B0-A8C8-A149DB27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F007-9857-4B6D-B901-FAB212EF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A3BF-847C-4A5A-9A9B-1F89F8E5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092F-9A51-4168-95CC-27659335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AAF6-9C83-403F-94FA-36A32E59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E4CF-93CA-4D0F-9689-ECF0349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517-C4F0-4C29-9477-E90ADE05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35FA-2C87-4F21-B888-192A915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77EC-41D6-4D9F-98AF-E56C0F2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1EFE-8103-40AF-B639-22BA8E9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B76F-63F3-46F3-95CD-DC0E599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9637-CC11-496D-ACE0-C00319A8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215F-7880-49D2-8B50-3720481E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3AB6-3795-4B36-A919-D4944FE3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223FC-1C79-4CB8-B8FB-B9D73F29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E5A1-1382-4379-9418-71D613F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E6EC-F033-430D-8628-DA6F830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ECF-0D5B-49A4-A113-E7E78CC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DD01-A924-4D88-8CED-D1F0656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27E0-D51D-4627-9E4B-050EB35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387A0-1F5E-4E7D-A496-3411370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69C9-CBBD-4F3B-90F8-D8C761E5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7378-7BFF-4E07-AD11-BD08747A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3BA7-044F-492A-8C59-CE19D10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E0CA-1DCF-42A1-80BD-243C9448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C282-3ABA-4775-A4AE-46BEAF73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0651-C4E6-4D58-BD98-78A59087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6CAA-3979-4E5F-B5F0-05A07523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97D-8FBE-4326-B3F9-70A80F4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DE72-9DB8-4E49-89CF-DE7FCDE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6DEC1-40F6-4B79-B515-D0A33124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0CF9-515D-4BD6-B7D1-6C74CE4C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A182-1BA3-42F3-8E6D-9F1626C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7159-48DF-42D2-84D5-E179D0CF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DCBF-2BA9-4E19-8F0D-5A363B5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B322-60A3-4B67-A6B2-0AB70161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19C78-B6C6-4D6A-A838-B9CEEF10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475B-1471-4A91-ABD3-05E10EE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D69B4-31F1-4465-8459-26370110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B40-5BFB-430F-8A1D-C219A85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E136-2F79-45B2-88CB-269477D1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A7AD-F5FC-4088-892C-6DF94F0E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66DF-43CE-4132-B0A8-CB8F20D5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8FA3E-97F4-43A6-A5F0-ADDBD2CD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323F-F29A-4A02-A540-F2E9BCB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7D20B-9D97-4087-A19D-53140B34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DCD2-376B-4B44-B75F-726C979F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E733-4960-4473-81C3-92DCF31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FC65-2E74-450A-AEBF-62BA1D6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F89E-93DE-4FAB-A9A0-AB49107F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916-B069-4F3A-89E9-D456C66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34F5-4929-4459-8EAF-6CB5096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D55F-C688-4C93-9377-1951422F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02A9-9DA7-4F4F-8B61-0582CAF7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33F5-DC98-44AD-BFC4-DA2896DE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B0339-21F9-4B2B-B364-7210414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C379-9FBA-4A12-A1A8-ABDAD40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39E7-1588-492B-A1EB-DCA37113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D9E1-5523-4438-ACFC-26A16DD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E1C7-A98E-4AB8-A027-D2D5D9AB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BEFAE-F959-4644-8864-F783B38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DC2-923F-4436-873D-619C6E1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39BBD-1A87-41CE-B2D4-C4DAB58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0ED0-5EF5-45D8-A004-EECCA99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17BB-A23D-4909-9659-457B2E21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778D-85C8-4292-B862-D6FC4EC2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3F2DD-539B-4E91-A116-B9A64585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08811-E678-45E4-AF85-D97D3E9D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EEA2-846D-4A49-AB60-D832245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734F1-FEC7-4E19-BBDE-C1928CE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7D3C8-3E9F-475B-9543-77A7A04F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83FEF-3711-49DC-9364-B8A8267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3B0-05CC-4010-A104-142672A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9B32-6A8B-4DEC-A14D-7CA1611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2BF22-220C-46C8-BD83-08E76BC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59FEA-0DEF-4C56-9966-91C650F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9AAD-8A03-41BA-88DA-FA5CBAC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2C533-24BE-47A3-A651-F4CAF50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EDEE-4252-4637-8D97-26FD72F0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E3A5-BAB6-4A76-B12F-6E7EE48F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D42A3-08DD-4DA1-9FD3-5145DB70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3E58-EFC4-4E0F-A1D3-09200501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58794-FAC6-48FD-ABBC-488A667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6709E-F482-4680-B27E-D31338E47C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3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  <a:ea typeface="宋体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  <a:ea typeface="宋体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A992B-5F66-436A-9FAA-16BF271E71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  <a:ea typeface="宋体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  <a:ea typeface="宋体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990A7-C70F-411F-8445-03B69C80954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1D82A-C8A6-4D1C-B4F8-C32EE6CA87B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010C1-5E19-4C39-969B-F298AA4AD2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F8E63-31A0-44C8-9D56-A1CD135DF6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33E02-3826-486C-9985-688DE60CA8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6B15D-054B-471C-B87C-E2FE90706D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7D01E-4560-4450-900F-DF1C9884131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9E511-0E47-4E6E-B00D-6FC2FC692C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7D4E2-7E4A-4477-8C39-6A3C28CEB51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9A0E2-56F8-4461-BDEB-59498D7B5D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DB8D0-A51A-4FFA-A382-86D3B9BA438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78928-E2B8-48E9-8214-F780ED7115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714320" y="1843200"/>
            <a:ext cx="59814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900" spc="-1" strike="noStrike">
                <a:solidFill>
                  <a:srgbClr val="262626"/>
                </a:solidFill>
                <a:latin typeface="隶书"/>
                <a:ea typeface="隶书"/>
              </a:rPr>
              <a:t>心理学原理与应用</a:t>
            </a:r>
            <a:endParaRPr b="0" lang="en-US" sz="4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3043080" y="4294080"/>
            <a:ext cx="64008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8bf4d"/>
                </a:solidFill>
                <a:latin typeface="Arial"/>
                <a:ea typeface="华文新魏"/>
              </a:rPr>
              <a:t>                        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文本框 6"/>
          <p:cNvSpPr/>
          <p:nvPr/>
        </p:nvSpPr>
        <p:spPr>
          <a:xfrm>
            <a:off x="3243240" y="3033720"/>
            <a:ext cx="47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庄国萍 王玲 孙慧英 主编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92" name="图片 7" descr=""/>
          <p:cNvPicPr/>
          <p:nvPr/>
        </p:nvPicPr>
        <p:blipFill>
          <a:blip r:embed="rId1"/>
          <a:stretch/>
        </p:blipFill>
        <p:spPr>
          <a:xfrm>
            <a:off x="3706920" y="4791240"/>
            <a:ext cx="1995480" cy="31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4000" spc="-1" strike="noStrike">
                <a:solidFill>
                  <a:srgbClr val="262626"/>
                </a:solidFill>
                <a:latin typeface="宋体"/>
                <a:ea typeface="黑体"/>
              </a:rPr>
              <a:t>一、意志的品质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（一）自觉性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自觉性是指能深刻充分地认识到自己行动目的的意义和重要性，并主动地支配自己的行动使之符合该目的的意志品质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相反的品质</a:t>
            </a:r>
            <a:r>
              <a:rPr b="1" lang="en-US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盲目和独断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（二）独立性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指个体倾向于自主地采取决定和行动，既不易受外界环境的偶然影响，也不易被周围人的说三道四所左右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相反的品质</a:t>
            </a:r>
            <a:r>
              <a:rPr b="1" lang="en-US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依从和受暗示性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（三）果断性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果断性是善于迅速地明辨是非，坚决地采取决定和执行决定的意志品质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相反的品质</a:t>
            </a:r>
            <a:r>
              <a:rPr b="1" lang="en-US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优柔寡断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42800" y="304560"/>
            <a:ext cx="8244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sz="4000" spc="-1" strike="noStrike">
              <a:solidFill>
                <a:srgbClr val="262626"/>
              </a:solidFill>
              <a:latin typeface="宋体"/>
              <a:ea typeface="黑体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（四）坚持性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坚持性是指在行动中百折不挠地克服困难，为实现预定目的坚持不懈的意志品质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相反的品质</a:t>
            </a:r>
            <a:r>
              <a:rPr b="1" lang="en-US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动摇性和顽固执拗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黑体"/>
              </a:rPr>
              <a:t>（五）自制力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自制力是善于控制和支配自己的情感和行动的品质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相反的品质</a:t>
            </a:r>
            <a:r>
              <a:rPr b="1" lang="en-US" sz="2000" spc="-1" strike="noStrike">
                <a:solidFill>
                  <a:srgbClr val="262626"/>
                </a:solidFill>
                <a:latin typeface="Times New Roman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黑体"/>
              </a:rPr>
              <a:t>任性和怯懦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二、中学生意志发展的特点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p143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262626"/>
                </a:solidFill>
                <a:latin typeface="Arial"/>
                <a:ea typeface="黑体"/>
              </a:rPr>
              <a:t>、意志行动的动机发展特点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262626"/>
                </a:solidFill>
                <a:latin typeface="Arial"/>
                <a:ea typeface="黑体"/>
              </a:rPr>
              <a:t>、意志行动的结构发展特点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4000" spc="-1" strike="noStrike">
                <a:solidFill>
                  <a:srgbClr val="262626"/>
                </a:solidFill>
                <a:latin typeface="Arial"/>
                <a:ea typeface="黑体"/>
              </a:rPr>
              <a:t>动机冲突的种类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、从形式上划分：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双趋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双避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趋避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多重趋避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、从内容上划分：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原则性动机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黑体"/>
                <a:ea typeface="黑体"/>
              </a:rPr>
              <a:t>非原则性动机冲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4000" spc="-1" strike="noStrike">
                <a:solidFill>
                  <a:srgbClr val="262626"/>
                </a:solidFill>
                <a:latin typeface="Arial"/>
                <a:ea typeface="黑体"/>
              </a:rPr>
              <a:t>动机与目的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动机        目的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动机        目的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动机       目的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直接连接符 24579"/>
          <p:cNvSpPr/>
          <p:nvPr/>
        </p:nvSpPr>
        <p:spPr>
          <a:xfrm>
            <a:off x="1692360" y="2492280"/>
            <a:ext cx="934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0" name="直接连接符 24580"/>
          <p:cNvSpPr/>
          <p:nvPr/>
        </p:nvSpPr>
        <p:spPr>
          <a:xfrm>
            <a:off x="183528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直接连接符 24581"/>
          <p:cNvSpPr/>
          <p:nvPr/>
        </p:nvSpPr>
        <p:spPr>
          <a:xfrm flipV="1">
            <a:off x="1763640" y="3141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直接连接符 24582"/>
          <p:cNvSpPr/>
          <p:nvPr/>
        </p:nvSpPr>
        <p:spPr>
          <a:xfrm flipV="1">
            <a:off x="1763640" y="450864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3" name="直接连接符 24583"/>
          <p:cNvSpPr/>
          <p:nvPr/>
        </p:nvSpPr>
        <p:spPr>
          <a:xfrm>
            <a:off x="18352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4" name="直接连接符 24584"/>
          <p:cNvSpPr/>
          <p:nvPr/>
        </p:nvSpPr>
        <p:spPr>
          <a:xfrm>
            <a:off x="1763640" y="4869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直接连接符 24585"/>
          <p:cNvSpPr/>
          <p:nvPr/>
        </p:nvSpPr>
        <p:spPr>
          <a:xfrm>
            <a:off x="183528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4000" spc="-1" strike="noStrike">
                <a:solidFill>
                  <a:srgbClr val="262626"/>
                </a:solidFill>
                <a:latin typeface="黑体"/>
                <a:ea typeface="黑体"/>
              </a:rPr>
              <a:t>行动策略与方法的选择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黑体"/>
                <a:ea typeface="黑体"/>
              </a:rPr>
              <a:t>如果达到目的方法只有一种，或者类似的行动已进行过多次，行动方法也很熟悉，那么，行动的目的一经确定，行动的策略与方法便一目了然，这不需要意志努力。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262626"/>
                </a:solidFill>
                <a:latin typeface="黑体"/>
                <a:ea typeface="黑体"/>
              </a:rPr>
              <a:t>达到同一目的的方法可能不止一种，这时就需人们权衡利弊，作出选择。要了解、比较各种方法的优缺点以及采用后可能导致的后果，客观上可能出现的困难，以及自己的主观条件等。然后，根据事物的发展规律、社会需要和道德规范，进行科学的决策。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19640" y="655200"/>
            <a:ext cx="2304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3600" spc="-1" strike="noStrike">
                <a:solidFill>
                  <a:srgbClr val="262626"/>
                </a:solidFill>
                <a:latin typeface="黑体"/>
                <a:ea typeface="黑体"/>
              </a:rPr>
              <a:t>练习题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6836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一、名词解释：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意志　　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二、填空题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意志是人类所特有的心理现象，是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的集中的体现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意志必须通过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表现出来，没有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则不是意志，只能是一种空想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意志行动的首要特征是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，意志行动最重要的特征是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，意志行动还必须以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为基础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4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一个完整的意志行动可分为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和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两个阶段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5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采取决定阶段一般来说包括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等心理因素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6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意志行动的中心环节是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阶段，它主要包括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和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两个环节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7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坚强意志的基本品质有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、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和</a:t>
            </a:r>
            <a:r>
              <a:rPr b="1" lang="en-US" sz="1800" spc="-1" strike="noStrike">
                <a:solidFill>
                  <a:srgbClr val="262626"/>
                </a:solidFill>
                <a:latin typeface="黑体"/>
                <a:ea typeface="黑体"/>
              </a:rPr>
              <a:t>——</a:t>
            </a: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228600" y="765000"/>
            <a:ext cx="8686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三、判断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１、不仅人类有意志，动物也有意志行为，因为动物也能适应和改造环境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２、意志是人类所特有的心理现象，因为只有人类的行为才是有确定目标的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３、人只要聪明就行，有没有坚强的意志并不能妨碍一个人最终取得大的成功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４、意志的自觉性是指善于控制和支配自己行动的能力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５、意志总是与克服困难联系在一起的。蜜蜂建筑十分精巧的蜂房，克服了不少的困难，所以，蜜蜂具有坚强的意志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６、康德认为人的意志“有其独自之特质、独自之形式、独自之立法权。”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７、意志总是与人有目的、有计划的行动密切相联的，所以一切具有自觉目的的行动都带有内心意志努力的性质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８、常言道：“有志者，事竟成。”这就是说，人只要有了坚强的意志，万事可成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９、意志不同于其它心理过程，它产生的源泉是人自身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１０、因他人“指鹿为马”而人云亦云，说明这个人缺乏自觉性的意志品质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１１、与坚强性相反的意志品质是优柔寡断和轻率冒失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黑体"/>
                <a:ea typeface="黑体"/>
              </a:rPr>
              <a:t>１２、果断性是善于明辨是非，不失时机地采取行动，并实现目的的意志品质。（　）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539640" y="980640"/>
            <a:ext cx="822960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四、简述题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１、意志行动的基本特征是什么？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２、意志有哪些基本品质？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五、论述题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１、试分析自己意志品质的优缺点，并说说你将打算如何培养和完善自己优良的意志品质？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黑体"/>
                <a:ea typeface="黑体"/>
              </a:rPr>
              <a:t>２、孟子曰：“今天奕之为数，小数也，不专心致志，则不得也。奕秋，通国之善奕者也。使奕秋诲二人奕，其一专心致志，惟奕秋之这；一人虽听之，一心以为有鸿鹄将至，思援弓缴而射之，虽与之俱学，弗学之矣。为是其智弗若与？曰‘非然也。’”通过对这一段话的分析，说明意志在人的一生中的重要意义。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矩形 4099"/>
          <p:cNvSpPr/>
          <p:nvPr/>
        </p:nvSpPr>
        <p:spPr>
          <a:xfrm>
            <a:off x="1835280" y="227664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Verdana"/>
                <a:ea typeface="华文新魏"/>
              </a:rPr>
              <a:t>第九章  意志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500" spc="-1" strike="noStrike">
                <a:solidFill>
                  <a:srgbClr val="d60093"/>
                </a:solidFill>
                <a:latin typeface="Arial"/>
                <a:ea typeface="华文新魏"/>
              </a:rPr>
              <a:t>本讲主要内容</a:t>
            </a:r>
            <a:endParaRPr b="0" lang="en-US" sz="65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231920" y="2565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一、意志的概念、特征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二、意志品质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三、意志行动的分析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4360" y="2349000"/>
            <a:ext cx="679752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3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Arial"/>
                <a:ea typeface="黑体"/>
              </a:rPr>
              <a:t>    </a:t>
            </a:r>
            <a:r>
              <a:rPr b="1" lang="zh-CN" sz="5400" spc="-1" strike="noStrike">
                <a:solidFill>
                  <a:srgbClr val="262626"/>
                </a:solidFill>
                <a:latin typeface="Arial"/>
                <a:ea typeface="黑体"/>
              </a:rPr>
              <a:t>第一节     意志概述</a:t>
            </a:r>
            <a:endParaRPr b="0" lang="en-US" sz="5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4000" spc="-1" strike="noStrike">
                <a:solidFill>
                  <a:srgbClr val="262626"/>
                </a:solidFill>
                <a:latin typeface="宋体"/>
                <a:ea typeface="黑体"/>
              </a:rPr>
              <a:t>一、意志的本质</a:t>
            </a:r>
            <a:r>
              <a:rPr b="0" sz="4000" spc="-1" strike="noStrike">
                <a:solidFill>
                  <a:srgbClr val="262626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55640" y="1916280"/>
            <a:ext cx="7631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宋体"/>
                <a:ea typeface="楷体_GB2312"/>
              </a:rPr>
              <a:t>一、什么是意志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楷体_GB2312"/>
              </a:rPr>
              <a:t>意志是人自觉地确定目的，并根据目的调节支配行动，克服困难，以实现预定目的的心理过程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楷体_GB2312"/>
              </a:rPr>
              <a:t>意志反映了人在认识和变革主、客观现实过程中的主观能动作用，是人的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意识能动性</a:t>
            </a:r>
            <a:r>
              <a:rPr b="1" lang="zh-CN" sz="2000" spc="-1" strike="noStrike">
                <a:solidFill>
                  <a:srgbClr val="262626"/>
                </a:solidFill>
                <a:latin typeface="宋体"/>
                <a:ea typeface="楷体_GB2312"/>
              </a:rPr>
              <a:t>的集中表现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4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二、意志行动的基本特征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914400" y="2565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明确的目的性（首要特征）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与克服困难相联系（最重要的特征）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以随意动作为基础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6720" y="62244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三、意志与认识、情绪情感的关系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66560" y="144144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（一）意志与认识活动的关系。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认识是意志产生的基础，意志对认识过程也有很大影响。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（二）意志与情绪情感的关系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情绪情感既可以成为意志行动的动力，也可以成为意志行动的阻力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意志对情绪情感具有调节作用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（三）意志和动机的关系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4000" spc="-1" strike="noStrike">
                <a:solidFill>
                  <a:srgbClr val="262626"/>
                </a:solidFill>
                <a:latin typeface="宋体"/>
                <a:ea typeface="黑体"/>
              </a:rPr>
              <a:t>四、意志行动的过程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（一）采取决定的阶段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</a:t>
            </a:r>
            <a:r>
              <a:rPr b="0" lang="zh-CN" sz="2000" spc="-1" strike="noStrike" u="sng">
                <a:solidFill>
                  <a:srgbClr val="a8bf4d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动机的斗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什么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</a:t>
            </a:r>
            <a:r>
              <a:rPr b="0" lang="zh-CN" sz="2000" spc="-1" strike="noStrike" u="sng">
                <a:solidFill>
                  <a:srgbClr val="a8bf4d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目的的确定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什么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</a:t>
            </a:r>
            <a:r>
              <a:rPr b="0" lang="zh-CN" sz="2000" spc="-1" strike="noStrike" u="sng">
                <a:solidFill>
                  <a:srgbClr val="a8bf4d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行动策略与方法的选择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---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怎样做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行动计划的制定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0080" indent="-280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（二）执行决定阶段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克服内外困难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262626"/>
                </a:solidFill>
                <a:latin typeface="楷体_GB2312"/>
                <a:ea typeface="楷体_GB2312"/>
              </a:rPr>
              <a:t>、经受成功与失败的考验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280080" indent="-280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000" spc="-1" strike="noStrike">
              <a:solidFill>
                <a:srgbClr val="262626"/>
              </a:solidFill>
              <a:latin typeface="Arial"/>
              <a:ea typeface="黑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  <a:ea typeface="黑体"/>
              </a:rPr>
              <a:t>第二节   意志品质与教育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02:09:20Z</dcterms:created>
  <dc:creator>MC SYSTEM</dc:creator>
  <dc:description/>
  <cp:keywords/>
  <dc:language>en-US</dc:language>
  <cp:lastModifiedBy>范美琳</cp:lastModifiedBy>
  <dcterms:modified xsi:type="dcterms:W3CDTF">2025-11-17T05:57:42Z</dcterms:modified>
  <cp:revision>80</cp:revision>
  <dc:subject/>
  <dc:title>第二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